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EC1-B7EE-4415-8B7D-2F208DF1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299-3692-4763-BDBE-66FEFF7D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3ED-EB31-4412-991D-442A57DD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672-7462-4D24-9BA1-6EC8F5D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D9D-21C0-47EA-8BD4-941314A4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50E5-5861-45E7-A9FB-4913444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3F7A-05AA-49DC-8B96-464330C3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75A-20D4-4EF0-B2E5-FF325EF5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C390-3AFF-4DB8-9EDB-06BA949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CB9-39E6-4A19-85FA-E1B76165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E09-5D34-4439-8854-9C62A08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E20-E1FE-4360-8638-BDF6813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4DE5-C891-42F5-BC23-1DFA240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86D-48AB-468C-8418-1B8B8877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1147-C0AE-42A3-AEA9-462FACF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53D1-3178-4A6B-B20D-25B14DD1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E3B5-685B-45EC-88F3-01D1EE7D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8B-390C-46D7-9316-EB67FE4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0B9-8E73-4EBF-8C96-C698F92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7BB-A0F5-40CA-806C-A4B0A7E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12A-747C-46EE-AD0D-460F4FBC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476-104A-471A-A631-F6267CA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518-3F4A-4160-9F18-0833349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506-4B28-4D29-9AE3-E08007E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789-7331-4FB7-A37D-170F376629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C5A0-33AB-4590-B9AA-09C1A479E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snat@amlo.go.th" TargetMode="External"/><Relationship Id="rId2" Type="http://schemas.openxmlformats.org/officeDocument/2006/relationships/hyperlink" Target="mailto:pranee@amlo.go.th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73080"/>
            <a:ext cx="8569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มาตรฐานสากลด้านการป้องกันปราบปรามการฟอกเงิน</a:t>
            </a:r>
            <a:br>
              <a:rPr sz="4400"/>
            </a:b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และ</a:t>
            </a:r>
            <a:br>
              <a:rPr sz="4400"/>
            </a:b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การต่อต้านการสนับสนุนทางการเงินแก่การก่อการร้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สำหร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สถาบันการเง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การเก็บรักษาข้อมู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1388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ชื่อ แล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หรือผู้รับผลประโยชน์ของลูกค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ที่อยู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วันที่ และลักษณะการทำธุรก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ประเภทของธุรกรรม และจำนวนเงินในการทำธุรกรรม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ประเภทบัญชี และหมายเลขบัญช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ข้อมูลอื่นๆที่เกี่ยวข้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การรายงานธุรกรรมที่มีเหตุอันควรสงสั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ผู้กำกับดูแลจะต้องให้มีการรายงานให้หน่วยงานผู้มีอำนาจหน้าที่ทรา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สถาบันการเงินจะต้องไม่ให้ลูกค้าทราบถึงการรายงาน ไม่ว่ากรณีใด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ผู้รายงานโดยสุจริต ไม่ต้องรับผิดชอบต่อความเสียหายที่เกิดขึ้นจากการรายงานต่อหน่วยงานผู้มีอำนาจหน้า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การรายงานธุรกรรมที่มีเหตุอันควรสงสัยนั้น ให้รวมถึงการรายงานธุรกรรมที่ใช้เงินสดหลายครั้งในวันเดียวกัน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การรายงานธุรกรรมเงินสด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85408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ต้องรายงานธุรกรรมที่ใช้เงินสดตั้งแต่สองล้านบาท หรือกว่านั้นขึ้นไ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การกำกับดูแลภายใน การกำกับการปฏิบัติงาน</a:t>
            </a:r>
            <a:br>
              <a:rPr sz="4000"/>
            </a:b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และการตรวจสอบ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มีการฝึกอบรมอย่างต่อเนื่องในเรื่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วิธีการฟอกเงิน และการสนับสนุนทางการเงินแก่การก่อการร้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วามต้องการตามกฎหมายของการป้องกันปราบปรามการฟอกเงินและการต่อต้านการสนับสนุนทางการเงินแก่การก่อการร้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นโยบายด้านการรู้จักลูกค้า การตรวจสอบเพื่อทราบข้อเท็จจริงเกี่ยวกับลูกค้า และการรายงานธุรกรรมที่มีเหตุอันควรสงสั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ผู้สมัครงานที่น่าจะเกี่ยวข้องกับการฟอกเง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เจ้าหน้าที่กำกับการปฏิบัติจะต้องอยู่ในระดับบริห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สายงานตรวจสอบจะต้องแยกออกจากสายกำกับการปฏิบัต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ติดต่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6360" y="1557000"/>
            <a:ext cx="677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พันตำรวจเอกสีหนาท  ประยูรรัตน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รองเลขาธิการคณะกรรมการป้องกันและปราบปรามการฟอกเงิน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ngsana New"/>
                <a:hlinkClick r:id="rId1"/>
              </a:rPr>
              <a:t>snat@amlo.go.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ปราณี  เก้าเอี้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กลุ่มงานวิเทศสัมพันธ์ กองนโยบายและมาตรกา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ngsana New"/>
                <a:hlinkClick r:id="rId2"/>
              </a:rPr>
              <a:t>pranee@amlo.go.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02 219 3600 # 400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หลักกา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การรู้จักลูกค้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Know Your Custom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(KY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การตรวจสอบเพื่อทราบข้อเท็จจริงเกี่ยวกับลูกค้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Customer Due Di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(CD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การรู้จักลูกค้า และการตรวจสอบ</a:t>
            </a:r>
            <a:br>
              <a:rPr sz="4000"/>
            </a:b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เพื่อทราบข้อเท็จจริงเกี่ยวกับลูกค้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หลักเกณฑ์ “การรู้จักลูกค้า” และ “การตรวจสอบเพื่อทราบข้อเท็จจริงเกี่ยวกับลูกค้า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เพื่อให้การดำเนินงาน การบริหารงาน และการบริหารความเสี่ยงเป็นไปอย่างราบร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รักษาระดับความมั่นคงของระบบการเงิน และช่วยในการพัฒนาระบบรองรับฐานลูกค้าใหม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ลดการฉ้อโกง และอาชญากรรมทางการเงินอื่น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ป้องกันชื่อเสียงของสถาบันการเงินจากความเสียหายจากการถูกใช้ในการประกอบอาชญาก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แนวทางการดำเนินงานด้านการรู้จักลูกค้า</a:t>
            </a:r>
            <a:br>
              <a:rPr sz="4000"/>
            </a:b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และการตรวจสอบเพื่อทราบข้อเท็จจริงเกี่ยวกับลูกค้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นำไปใช้กับสาขาทุกสาขา และหน่วยงานในเครือที่สถาบันการเงินถือหุ้นใหญ่ ทั้งในและนอกประเท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ในกรณีที่มาตรฐานต่างกัน ให้ใช้มาตรฐานที่สูงกว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อาจต้องปรับใช้กับผู้ขายสินค้า หรือบริการให้กับสถาบันการเงินด้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ลูกค้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บุคคล หรือหน่วยงานที่มีบัญชีกับสถาบันการเงิน หรือเป็นผู้ที่มีผู้ดูแลบัญชีแทน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เจ้าของผู้รับผลประโยชน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ผู้รับผลประโยชน์จากธุรกรรมที่กระทำโดยผู้มีอาชีพเป็นตัวแทน เช่น นักบัญชี และทนาย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บุคคล หรือหน่วยงานที่เกี่ยวพันกับธุรกรรมทางการเงิน ซึ่งอาจก่อให้เกิดความเสี่ยงต่อธนาค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ขั้นตอนการรับลูกค้า และการแสดงต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จะต้องมีขั้นตอนและหลักการปฏิบัติที่ชัดเจ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ควรมีการพัฒนาข้อมูลความเสี่ยงของลูกค้า โดยมีตัวบ่งชี้ระดับความเสี่ย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การพิจารณาระดับความเสี่ยงของลูกค้าควรเป็นไปโดยผู้บริหารระดับสู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จะเปิดบัญชีต่อเมื่อลูกค้าแสดงตนอย่างพอเพีย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การรู้จักลูกค้า หรือการแสดงตนของลูกค้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Arial"/>
              </a:rPr>
              <a:t>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เอกสารการแสดงตนที่ออกโดยหน่วยราชการ เช่น บัตรประจำตัวประชาชน หรือใบขับข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Arial"/>
              </a:rPr>
              <a:t>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ชื่อและลักษณะการประกอบการของหน่วย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ที่อยู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ชื่อผู้บริห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ถือหุ้นใหญ่ หรือผู้รับผลประโยช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วัตถุประสงค์ และผู้มีอำนาจตามหนังสือรับรองรายการทาง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หมายเลข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2b2b2"/>
                </a:solidFill>
                <a:latin typeface="Arial"/>
              </a:rPr>
              <a:t>การตรวจสอบเพื่อทราบข้อเท็จจริงเกี่ยวกับลูกค้า ภาคขยาย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ช้กับลูกค้าที่มีความเสี่ยงสู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บุคคลทางการเมือง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ลูกค้าที่ต้องให้ความสนใจเป็นกรณีพิเศษ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ารเปิดบัญชีระหว่างสถาบันการเงินที่อยู่นอก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ลูกค้าที่ไม่ได้ติดต่อกับสถาบันการเงินโดยตร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ลูกค้าที่ดำเนินการผ่านผู้แนะน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ลูกค้าที่ทำธุรกิจที่มีความเสี่ยงสูงอื่นๆ เช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มีความซับซ้อน มีธุรกรรมที่มีจำนวนเงินมากผิดปกติ และมีรูปแบบที่ผิดปกติอันไม่สมเหตุผลทางเศรษฐกิจ และ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ธุรกิจที่จดทะเบียนในประเทศที่ไม่ได้รับการยอมรับด้านมาตรฐานตามข้อแนะนำขอ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มาตรฐานพิเศ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บุคคลทางการเม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คำจำกัดความของ “บุคคลทางการเมือง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รับรองการเปิดบัญชีโดยผู้บริหารระดับสู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ขอทราบข้อเท็จจริงเกี่ยวกับที่มาของเงิน และความมั่งค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เฝ้าระวังเป็น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การเปิดบัญชีระหว่างสถาบันการเงินที่อยู่นอก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ขอทราบข้อเท็จจริงเกี่ยวกับรูปแบบการดำเนินธุรกิจ ชื่อเสียง และมาตรฐานการกำกับดูแล</a:t>
            </a:r>
            <a:br>
              <a:rPr sz="2400"/>
            </a:b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ของสถาบันการเงินที่อยู่นอกราชอาณาจักร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ประเมินมาตรการด้านการป้องกันปราบปรามการฟอกเงิน และการต่อต้านการสนับสนุนทางการเงินแก่การก่อการร้ายของสถาบันการเงิน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มีการรับรองการทำธุรกรรมโดยผู้บริหารระดับสู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เอกสารมีการอ้างอิงความรับผิดชอบ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1:19Z</dcterms:created>
  <dc:creator>Admin</dc:creator>
  <dc:description/>
  <dc:language>en-US</dc:language>
  <cp:lastModifiedBy>taniya</cp:lastModifiedBy>
  <dcterms:modified xsi:type="dcterms:W3CDTF">2007-06-13T03:46:42Z</dcterms:modified>
  <cp:revision>26</cp:revision>
  <dc:subject/>
  <dc:title>มาตรฐานสากลด้านการต่อต้านการฟอกเงิน และการสนับสนุนทางการเงินแก่การก่อการร้าย</dc:title>
</cp:coreProperties>
</file>